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3F9-DF0E-4293-8812-50BE1645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7C8-84F0-42CA-AA63-68C3809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4B9-CD91-4DE7-92C6-5AE67EE2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257-80D0-4244-8F82-C44ED42F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852-7839-4716-9ACE-14C6060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511-C640-4734-8056-A25C7861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150-9726-41FD-87AE-66845C2F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CAF-1DD4-416B-84D7-0B64281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CC3-81F8-4BC5-90DA-1265D344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FCB-A03D-4EEB-8378-08F4B57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7A8-B425-49F1-BB8B-18C01BD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ABE-6936-40B7-9C39-B0DC87F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4AE-9FC1-4B4E-9EF4-D27C2EE45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895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carefully abou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e characters that they create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In historical fiction, writers are very careful about the way that they create characters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 character must speak, act, dress and behave in ways that are appropriate to the time period in which they live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n the book </a:t>
            </a:r>
            <a:r>
              <a:rPr b="0" i="1" lang="en-US" sz="3200" spc="-1" strike="noStrike">
                <a:solidFill>
                  <a:srgbClr val="dfd293"/>
                </a:solidFill>
                <a:latin typeface="Arial"/>
              </a:rPr>
              <a:t>Katie’s Trunk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, how did the author make Katie seem appropriate to the time period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6" name="katie's%20trunk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1143000" cy="145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520" y="3581280"/>
            <a:ext cx="365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293"/>
                </a:solidFill>
                <a:latin typeface="Arial"/>
              </a:rPr>
              <a:t>Katie’s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Ann Warren Tu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105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ill your character be true to the time period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In your notebook, draw three squares with the following headings:  D</a:t>
            </a:r>
            <a:r>
              <a:rPr b="0" i="1" lang="en-US" sz="3600" spc="-1" strike="noStrike">
                <a:solidFill>
                  <a:srgbClr val="dfd293"/>
                </a:solidFill>
                <a:latin typeface="Arial"/>
              </a:rPr>
              <a:t>resses, Speaks, Acts</a:t>
            </a: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.  Think about things that your character might wear, say or do that reflect the time period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Be prepared to share some of your ideas at the end of the workshop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39:38Z</dcterms:created>
  <dc:creator>AAPS</dc:creator>
  <dc:description/>
  <dc:language>en-US</dc:language>
  <cp:lastModifiedBy>Carrie Dworkin</cp:lastModifiedBy>
  <dcterms:modified xsi:type="dcterms:W3CDTF">2005-08-12T16:54:13Z</dcterms:modified>
  <cp:revision>3</cp:revision>
  <dc:subject/>
  <dc:title>Characters </dc:title>
</cp:coreProperties>
</file>